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2A9B8-31E9-4F40-A739-EC1A2EE74E4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EDE-E45A-4724-9141-26F2B7AE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B30-4225-484C-9A41-4F4005BA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B31-2298-4991-8782-AF12E4D1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6DB-CB0A-4D06-99F7-76AD305C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7D88-B1D1-4BDB-962E-B0FD8B7A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3FCB-6C8E-4843-A03C-F297A391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FB9E-F196-4DC7-A8F5-72672B6E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5C84-0FA8-47A8-A3F2-4D0D667E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FF5C-A414-4FA6-BD94-409805B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3704-6E0D-4A21-9450-0D3D776E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ED7A-763D-47D2-93E7-E370756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465-BEFF-4AA4-86D1-A3E2CBC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F1B9-FEE6-4032-91D1-DF6DB83A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84C-2225-4C08-ADF3-16ECBD64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1E8C-E604-424D-A8D5-DE448D52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9B8-E9DA-4DF1-8325-1C64D616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D649-7534-46CB-B5CA-DC4CF687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A8AD-8AAF-4CE7-8EC8-DDD7AF96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3BCF-A202-4BB3-BC63-E4DFCB6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3DF2-B5D4-4088-9670-2F3307CD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E6EE-8316-47BD-A6DF-DF6E3E31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0B22-4A62-4752-A41D-2046D221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569-81A7-4F72-BD35-851DFCCC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B9FC-5628-4303-B2F7-56D8DE73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2E32-E01C-4632-8FDA-E24FB48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43D6-A51B-4CD4-B2F3-720CA225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31C2-36C1-458F-BDC4-992FD160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F22B-0D3F-4D55-8736-977E2F8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83FA-1468-4B59-8BFF-1654AABD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0EFA-3616-4419-A227-25A8823D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A3C34-A782-4673-88A0-5AB74525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F973-5BAD-4F74-9A90-1310BABC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9B190-0774-46F1-BB3D-99E86C85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CE7-DF43-44B2-A1DC-6FAD0A8A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A4D10-BFBB-4F79-A589-980FD038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8457-6348-4E38-B3C7-65CC0A4C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0137-0D12-431D-9BB7-EACAEC09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7903-3BAE-46CC-9D3D-2C939043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D6A9-9A6A-4045-AE8D-E2F030A3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363B2-7416-4028-9512-6F17875D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85F3-3536-4CA6-BF3C-6A8E98D7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8F9D-CE19-4BE7-922D-A8B7CA83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1D175-D3CA-40FD-9BE9-E8B03029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57D-8DAF-45FF-803C-10544BCD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3E9-51F5-4B3F-895A-5616C8A6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8E1-9470-4F2D-94D3-EA2326F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523-5414-4042-8832-71EF053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01C-9F18-4266-83F6-C10A3DA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B94C3-A8CB-4CEC-B836-E26B85D4F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53A0E-B188-4CEF-8E76-828D134BAE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2160360"/>
            <a:ext cx="90630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91DB1-68E0-4025-AB02-8B813B8892D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D1978-C92C-4129-9331-1BFF9EE652D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8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:/Users/marc/Desktop/Osmosekraftwerk%20Referat/VideoOut.avi.WMV" TargetMode="External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Osmosekraft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94580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1800" y="1440000"/>
            <a:ext cx="7558200" cy="52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040360" y="3600360"/>
            <a:ext cx="4680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as Osmosekraftwerk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Aufbau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20720" y="1619280"/>
            <a:ext cx="864072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Wasseraufbereit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alz- und Süßwasser werd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Filtration von grob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rtikeln befre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s geschieht, damit d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mpfindliche Membran n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gesetzt oder gar zersört w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962760" y="2160720"/>
            <a:ext cx="31179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er Druckaustausc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uck des Brackwasserablaufes wird für Salzwasserzulauf genutz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ies geschieht ohne Energieumwandlung unter Erhaltung des hydraulischen Druc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440000" y="2879640"/>
            <a:ext cx="73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b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mbranschicht: Für Salzionen undurchläss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ützschicht: Druckstütze für Membr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296040" y="3240000"/>
            <a:ext cx="3424320" cy="306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60360" y="3060720"/>
            <a:ext cx="558000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Materiali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59640" y="2160720"/>
            <a:ext cx="3060720" cy="4679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20720" y="3060720"/>
            <a:ext cx="5400720" cy="4140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ellulose Acetat (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ünnfilm Composite (TF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Effizien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forderliche Membraneigenschaf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urchlässig für Wass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ndurchlässig für Sal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Kostengünsti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ünn (Minimierung der inneren Reibu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Langlebig(Resistent gegen Faul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Hohe Druckbeständigke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80000" y="4680000"/>
            <a:ext cx="3600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Funktionswei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073240"/>
            <a:ext cx="1007892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3459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Berechnung des osmotischen Drucks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69920" y="2732040"/>
                <a:ext cx="289080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emperatu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93,15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Gaskonstante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,314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mol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t xml:space="preserve">Salzgehalt</m:t>
                        </m:r>
                        <m:r>
                          <m:t xml:space="preserve">der</m:t>
                        </m:r>
                        <m:r>
                          <m:t xml:space="preserve">Ostse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5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r>
                          <m:t xml:space="preserve">Salzgehalt</m:t>
                        </m:r>
                        <m:r>
                          <m:t xml:space="preserve">eines</m:t>
                        </m:r>
                        <m:r>
                          <m:t xml:space="preserve">mündenden</m:t>
                        </m:r>
                        <m:r>
                          <m:t xml:space="preserve">Flusse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271520" y="5219640"/>
                <a:ext cx="70812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ruck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80000" y="2332080"/>
                <a:ext cx="109368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80000" y="1800360"/>
                <a:ext cx="110808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echnung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80360" y="3240000"/>
                <a:ext cx="245880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olare</m:t>
                        </m:r>
                        <m:r>
                          <m:t xml:space="preserve"> </m:t>
                        </m:r>
                        <m:r>
                          <m:t xml:space="preserve">Mass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mit</m:t>
                        </m:r>
                        <m:r>
                          <m:t xml:space="preserve"> </m:t>
                        </m:r>
                        <m:r>
                          <m:t xml:space="preserve">Einheit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mol</m:t>
                            </m:r>
                          </m:den>
                        </m:f>
                      </m:e>
                      <m:e>
                        <m:r>
                          <m:t xml:space="preserve">ist</m:t>
                        </m:r>
                        <m:r>
                          <m:t xml:space="preserve"> </m:t>
                        </m:r>
                        <m:r>
                          <m:t xml:space="preserve">gleich</m:t>
                        </m:r>
                        <m:r>
                          <m:t xml:space="preserve"> </m:t>
                        </m:r>
                        <m:r>
                          <m:t xml:space="preserve">der</m:t>
                        </m:r>
                        <m:r>
                          <m:t xml:space="preserve"> </m:t>
                        </m:r>
                        <m:r>
                          <m:t xml:space="preserve">Atommasse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.</m:t>
                        </m:r>
                      </m:e>
                      <m:e/>
                      <m:e>
                        <m:r>
                          <m:t xml:space="preserve">Atommass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N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2,99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C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5,453</m:t>
                        </m:r>
                        <m:r>
                          <m:t xml:space="preserve">u</m:t>
                        </m:r>
                      </m:e>
                      <m:e/>
                      <m:e>
                        <m:r>
                          <m:t xml:space="preserve">,</m:t>
                        </m:r>
                        <m:r>
                          <m:t xml:space="preserve">daher</m:t>
                        </m:r>
                        <m:r>
                          <m:t xml:space="preserve"> </m:t>
                        </m:r>
                        <m:r>
                          <m:t xml:space="preserve">ist</m:t>
                        </m:r>
                        <m:r>
                          <m:t xml:space="preserve"> </m:t>
                        </m:r>
                        <m:r>
                          <m:t xml:space="preserve">die</m:t>
                        </m:r>
                        <m:r>
                          <m:t xml:space="preserve"> </m:t>
                        </m:r>
                        <m:r>
                          <m:t xml:space="preserve">Molare</m:t>
                        </m:r>
                        <m:r>
                          <m:t xml:space="preserve"> </m:t>
                        </m:r>
                        <m:r>
                          <m:t xml:space="preserve">Mass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von</m:t>
                        </m:r>
                        <m:r>
                          <m:t xml:space="preserve"> </m:t>
                        </m:r>
                        <m:r>
                          <m:t xml:space="preserve">NaC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8,42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mol</m:t>
                            </m:r>
                          </m:den>
                        </m:f>
                        <m: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751200" y="3060720"/>
                <a:ext cx="2908440" cy="26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den>
                        </m:f>
                      </m:e>
                      <m:e/>
                      <m:e>
                        <m:r>
                          <m:t xml:space="preserve">Ostsee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5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58,42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mo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99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/>
                      <m:e>
                        <m:r>
                          <m:t xml:space="preserve">Flus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58,42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mo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017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/>
                      <m:e>
                        <m:r>
                          <m:t xml:space="preserve">Δ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82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6199200"/>
                <a:ext cx="2822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/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82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8,314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93,15</m:t>
                        </m:r>
                        <m:r>
                          <m:t xml:space="preserve">K</m:t>
                        </m:r>
                      </m:e>
                      <m:e/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418,48</m:t>
                        </m:r>
                        <m: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940360" y="7189920"/>
                <a:ext cx="221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100</m:t>
                    </m:r>
                    <m:r>
                      <m:t xml:space="preserve">kP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 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14,18</m:t>
                        </m:r>
                        <m:r>
                          <m:t xml:space="preserve">b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79640" y="2160720"/>
                <a:ext cx="9763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egebe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35160" y="4680000"/>
                <a:ext cx="92556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esucht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er Prototyp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0200" y="4500720"/>
            <a:ext cx="5238720" cy="3060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66 Membranröhren mit 2000m² Membranflä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-4 kW Gesamtleist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kosten von ca. 13mio.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er Energielieferant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Sonnenstrahlung verdunstet Meerwas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Über Wolkenbildung und Niederschlag gelangt dieses Wasser durch Flüsse zurück ins Me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n Flussmündungen kann nun ein Teil der von der Sonne gelieferten Energie durch Osmosekraftwerke in elektrische Energie umgewandelt we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azit: Global gesehen ist die Sonne somit der eigentliche Energieliefer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7280" y="21204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RD Beitrag zum Osmosekraft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Osm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Osmosekraft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Aufbau und Funktionswe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Wirtschaftlichkeit, Entwicklungsstand,                  Effizienz und Umweltverträg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Übersicht über Effizienzeinflüsse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Osmotischer Druck (Stoffmengenkonzentrationsunterschied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ergieverlust durch innere Reibung im Rohr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Membranleistung und Kost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Lage des Kraftwer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ergieeinsatz für Pumpen, Filteranla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ruckerzeugung für Effizienzsteigerung   (Druckumwandl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199280" y="3600360"/>
            <a:ext cx="258120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Einsetzbarkeit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2340000"/>
            <a:ext cx="7740720" cy="4319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20000" y="1596960"/>
            <a:ext cx="3060720" cy="2903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400880" y="4500720"/>
            <a:ext cx="26780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Standortbeisp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öhere Leistung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 Gewässern m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ohem Salzgeh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spiele: 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er, Mittelme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oßer Salzsee(Uta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34880" y="1800360"/>
            <a:ext cx="44244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Energiemarkt im Vergleich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79360" y="2228760"/>
            <a:ext cx="960120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Vor- und Nachteil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96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Vortei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Erneuerbare und umweltfreundliche Energ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Überall dort einsatzfähig, wo Süßwasser auf                  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  Salzwasser triff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Wetterunabhängig, 24/7 Stromerzeug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Nachtei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Aufwendige Entwickl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Mit heutigem Entwicklungsstand kostenintensi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Mögliche Zerstörung von Mikrokultu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Hoher Platzbedar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Wirkungsgrad: 25-3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Geschichte / Entwicklung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000" y="1541520"/>
            <a:ext cx="907092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70er Jahre: Membran für die Entsalzung von Meerwasser wird                      entwickelt und dabei die Möglichkeit entdeckt,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Osmosekraft energietechnisch nutzbar machen zu                       kön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80er Jahre: Zwei Norweger erforschen die theoretischen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Möglichkeiten zur Erzeugung von Osmosekr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997: Zwei norwegische Firmen rufen ein Forschungssprojekt              ins Leb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1: EU– Gelder für die Osmosekraftforsch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3: Statkraft meldet Patent für Osmosekraftmembran an und            errichtet Testan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: Prototypenbau in Tofte bei Os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vember 2009: Prototyp nimmt Betrieb a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Zukunftsaussichten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 Kraftwerk von der Größe eines Fußballstadions könnte mit einer Leistung von 25 Megawatt 30.000 Haushalte versor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r Elbe wäre ein Osmosekraft schwer vorstellbar, da durch die Tiede eine weitläufige Brackwasserzone beste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tweites Potenzial von 1600 bis 1700 tW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21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Lückentext zum Osmosekraftwerk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2920" y="1488960"/>
            <a:ext cx="907092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as Osmosekraftwerk nutzt die Kraft des osmotischen Drucks, welcher sich durch unterschiedliche Salz- konzentrationen zweier ------- 1 ------- ergibt. Diese Lösungen stellen ein Süßwasservorkommen (Fluss) und ein Salzwasservorkommen (------- 2 -------) d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Je größer der Konzentrationsunterschied der beiden Lösungen ist, desto größer ist der Druck und somit auch die ---------- 3 ---------. Als Standorte eignen sich daher nur Orte an denen Süßwasser auf Salzwasser trifft, zum Beispiel        ------- 4 -------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ls Effizienzeinflüsse gelten zum Beispiel die semipermeable ------ 5 ------, der Konzentrationsunterschied der aufeinander treffenden Lösungen und die Lage des Osmosekraftwerkes bzw. die Entfernung zur Salz- und Süßwasserquel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lös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2920" y="165528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as Osmosekraftwerk nutzt die Kraft des osmotischen Drucks, welcher sich durch unterschiedliche Salz- konzentrationen zwei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Lösung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ergibt. Diese Lösungen stellen ein Süßwasservorkommen (Fluss) und ein Salzwasservorkommen (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Meer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) d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Je größer der Konzentrationsunterschied der beiden Lösungen ist, desto größer ist der Druck und somit auch di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Energieausbeut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. Als Standorte eignen sich daher nur Orte an denen Süßwasser auf Salzwasser trifft, zum Beispiel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Flussmündung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ls Effizienzeinflüsse gelten zum Beispiel die semipermeabl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Membra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der Konzentrationsunterschied der aufeinander treffenden Lösungen und die Lage des Osmosekraftwerkes bzw. die Entfernung zur Salz- und Süßwasserquel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Quellen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iffusion / Osmos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u-helmich.de/bio/cyt/reihe02/Diffusion2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edizinfo.de/arzneimittel/resorption/diffusion.s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allig.eduvinet.de/bio/11diffus/diffus14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allig.eduvinet.de/bio/11osmose/osmo11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smosekraftwer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g-o.de/dossier-483-1.html / -483-4.html / -483-5.html / -483-6.html / -483-7.html / -483-8.html / -483-9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ardmediathek.de/ard/servlet/content/3517136?documentId=423203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energy-sources/osmotic-power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Osmotic%2009%20ENG_tcm9-4591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Waterpower_XVI_-_Power_production_based_on_osmotic_pressure_tcm9-5100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HYDRO%202009%20-%20Unleashing%20renewable%20energies%20from%20the%20ocean_tcm9-5099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Druckaustausch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Stoffmengenkonzentr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Universelle_Gaskonstan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gkss.de/public_relations/answers/osmose/index.html.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p.haw-hamburg.de/pers/Watter/ErneuerbareEnergie-Dateien/Osmosekraftwerke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buch-der-synergie.de/c_neu_html/c_06_11_wasser_salintaetsgradient_hydrosphaere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flickr.com/photos/44290727@N07/sets/72157622731791006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wendenenergie.de/Bilder/b_effizienz.jp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maps.google.com/maps/ms?ie=UTF8&amp;oe=UTF8&amp;msa=0&amp;msid=110988255057957786351.000458defae6b7147f5c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books.google.de/books?id=RjFLer1U7cAC&amp;printsec=frontcover&amp;dq=nachhaltige+energiesysteme++holger+watter&amp;cd=1#v=onepage&amp;q&amp;f=fal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52344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92520" y="3060720"/>
            <a:ext cx="42274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RD Beitr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920" y="52344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Osmose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iffusion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die willkürliche Molekularbewegung sind Moleküle und damit auch die Ionen in ständiger Beweg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ilchen vermischen sich, bis ein Gleichgewicht besteht, bzw. eine gleichmäßige Konz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ffusion ist ein langsamer aber fortlaufender Proz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03880" y="5029200"/>
            <a:ext cx="3695760" cy="234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00000" y="5400720"/>
            <a:ext cx="485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Diffusion-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Modellvers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764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inke Seite (rot) = Zuckerlö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te Seite (blau) = Was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mbran lässt Wassermolekü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d Zuckerteilchen du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59280" y="3060720"/>
            <a:ext cx="4140360" cy="450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740720" y="5759280"/>
            <a:ext cx="234000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39640" y="395928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7559640" y="900000"/>
            <a:ext cx="25192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Osmo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Osmose = „Diffusion mit Hindernissen“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ine semipermea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(halbdurchlässige) Membr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stellt das Hindernis d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s entsteht ein osmotischer Druc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Prozess kommt zum Stillstand, wenn osmotisches Gleichgewicht herrscht (p hydrostatisch = p osmotisch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64240" y="2070000"/>
            <a:ext cx="351648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Osmose -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Vers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nötigte Materia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1 Osm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Becherg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pritzflasche mit Was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20g Haushaltszu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Petrisch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Filzst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940360" y="2897280"/>
            <a:ext cx="2340000" cy="45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039160" y="161928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Lückentext zur Osmo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2920" y="1120680"/>
            <a:ext cx="907092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ie Osmose basiert auf dem Effekt der ------- 1 -------, bei dem sich durch eine ständige und willkürliche Bewegung der Moleküle und gleichzeitige Übertragung dieser Bewegungsenergie auf die gelösten ------- 2 -------, eine Durchmischung einstellt. Diese Durchmischung ist fortlaufend, wobei sich das Konzentrationsgefälle in ein gleichmäßiges ------- 3 ------- wandel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 der Osmose ist lediglich ein Hindernis in Form einer -------- 4 -------- / halbdurchlässigen Membran in diesen Prozess eingebunden. Durch diese Membran gelangen nur bestimmte Teilchen, die eine ------- 5 ------- Größe nicht überschreiten. Somit entsteht auf einer Seite von der Membran ein ------- 6 ------- Druck, sofern ein Konzentrations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nterschied der gelösten Teilchen zwischen beiden Seiten besteh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lös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02920" y="1281240"/>
            <a:ext cx="9070920" cy="59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ie Osmose basiert auf dem Effekt d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Diffusio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bei dem sich durch eine ständige und willkürliche Bewegung der Moleküle und gleichzeitige Übertragung dieser Bewegungsenergie auf die gelösten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Ionen / Teilch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eine Durchmischung einstellt. Diese Durchmischung ist fortlaufend, wobei sich das Konzentrationsgefälle in ein gleichmäßiges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Konzentrationsverhältnis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wandel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 der Osmose ist lediglich ein Hindernis in Form ein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semipermeabl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/ halbdurchlässigen Membran in diesen Prozess eingebunden. Durch diese Membran gelangen nur bestimmte Teilchen, die ein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definiert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Größe nicht überschreiten. Somit entsteht auf einer Seite von der Membran ein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osmotischer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Druck, sofern ein Konzentrations-unterschied der gelösten Teilchen zwischen beiden Seiten besteh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Marc Lingenhoff</cp:lastModifiedBy>
  <cp:lastPrinted>2010-04-25T20:00:37Z</cp:lastPrinted>
  <dcterms:modified xsi:type="dcterms:W3CDTF">2010-04-25T19:58:22Z</dcterms:modified>
  <cp:revision>131</cp:revision>
  <dc:subject/>
  <dc:title/>
</cp:coreProperties>
</file>